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9661-7D8B-4171-BD41-290B05B0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CC8-63E4-46D9-86E7-F68344B3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260-BA32-45CD-8BBC-17C6199C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780-F6B9-4E3B-B3C5-6D29C1A7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899-9FFF-4CC1-B51C-9C850D80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0B6-F02F-4C96-A4AD-DDE1A408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D55-D19E-47FC-9026-FCF6A318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C80-B4CC-409A-B702-3EEBB3E5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717-FA4E-417C-BF51-8A506014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769-4094-4F7B-8A12-D07518BE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55D-1ED1-4B99-8B24-A892865F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B30-E8A6-46B8-B605-CED2D793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3300-E6BC-49BC-8F8B-853EC4D8BD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c2e"/>
                </a:solidFill>
                <a:latin typeface="Arial"/>
              </a:rPr>
              <a:t>Drama Vocabula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4" descr="j0343201"/>
          <p:cNvPicPr/>
          <p:nvPr/>
        </p:nvPicPr>
        <p:blipFill>
          <a:blip r:embed="rId1"/>
          <a:stretch/>
        </p:blipFill>
        <p:spPr>
          <a:xfrm>
            <a:off x="380880" y="1905120"/>
            <a:ext cx="4114800" cy="4190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j0282442"/>
          <p:cNvPicPr/>
          <p:nvPr/>
        </p:nvPicPr>
        <p:blipFill>
          <a:blip r:embed="rId2"/>
          <a:stretch/>
        </p:blipFill>
        <p:spPr>
          <a:xfrm>
            <a:off x="5181480" y="1905120"/>
            <a:ext cx="304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reenpl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script for a screen, including instructions for sets and camera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64008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Verbal Iron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ff"/>
                </a:solidFill>
                <a:uFillTx/>
                <a:latin typeface="Arial"/>
              </a:rPr>
              <a:t>A person says one thing and means another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Example: </a:t>
            </a:r>
            <a:r>
              <a:rPr b="0" lang="en-US" sz="4000" spc="-1" strike="noStrike" u="sng">
                <a:solidFill>
                  <a:srgbClr val="00ffff"/>
                </a:solidFill>
                <a:uFillTx/>
                <a:latin typeface="Arial"/>
              </a:rPr>
              <a:t>When Mercutio is dealt a fatal wound but calls it only a “scratch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bal Irony 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 great!” (when something isn’t really g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Sure I don’t mind to wait until you finish your conversation, I know it’s way more important than what I am fixing to teach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wo households both alike in dignity…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d4d4d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d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d4d4df"/>
                </a:solidFill>
                <a:latin typeface="Arial"/>
              </a:rPr>
              <a:t>Lucky you!!” (when you get a teacher you don’t really wa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2e"/>
                </a:solidFill>
                <a:latin typeface="Arial"/>
              </a:rPr>
              <a:t>Dramatic Iro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</a:rPr>
              <a:t>The audience has important information that characters in a literary work do not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Example: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</a:rPr>
              <a:t>The audience knows that Juliet is only sleeping, but Romeo thinks she is d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31" descr="T970406A"/>
          <p:cNvPicPr/>
          <p:nvPr/>
        </p:nvPicPr>
        <p:blipFill>
          <a:blip r:embed="rId1"/>
          <a:stretch/>
        </p:blipFill>
        <p:spPr>
          <a:xfrm>
            <a:off x="4495680" y="2209680"/>
            <a:ext cx="4038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c2e"/>
                </a:solidFill>
                <a:latin typeface="Arial"/>
              </a:rPr>
              <a:t>Asi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A character’s remark, either to the audience or another character, that others on stage do not hear; reveals the character’s private thou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MCj02343290000[1]"/>
          <p:cNvPicPr/>
          <p:nvPr/>
        </p:nvPicPr>
        <p:blipFill>
          <a:blip r:embed="rId1"/>
          <a:stretch/>
        </p:blipFill>
        <p:spPr>
          <a:xfrm>
            <a:off x="4648320" y="1676520"/>
            <a:ext cx="3962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Soliloqu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</a:rPr>
              <a:t>A speech given by a character alone on stage that lets the audience know what the character is thinking or fe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Example: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</a:rPr>
              <a:t>Juliet’s balcony spe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9" descr="MCj00897840000[1]"/>
          <p:cNvPicPr/>
          <p:nvPr/>
        </p:nvPicPr>
        <p:blipFill>
          <a:blip r:embed="rId1"/>
          <a:stretch/>
        </p:blipFill>
        <p:spPr>
          <a:xfrm>
            <a:off x="5638680" y="1676520"/>
            <a:ext cx="35053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P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A humorous play on two or more meanings of the same word or on two different words with the same 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xamples: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drove his expensive car into a tree and found out how the Mercedes be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baker stopped making donuts after he got tired of the hole 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P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xamples: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isin wined about how he couldn't achieve grape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you've seen one shopping center you've seen a 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fish are in schools they sometimes take deb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Anachro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Someone or something that is not in its correct historical or chronological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15" descr="j0250482"/>
          <p:cNvPicPr/>
          <p:nvPr/>
        </p:nvPicPr>
        <p:blipFill>
          <a:blip r:embed="rId1"/>
          <a:stretch/>
        </p:blipFill>
        <p:spPr>
          <a:xfrm>
            <a:off x="5791320" y="1676520"/>
            <a:ext cx="2514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Stage Dir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Instructions about the appearance and actions of characters, sets, props, costumes, sound effects, and lighting for a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9" descr="j0336492"/>
          <p:cNvPicPr/>
          <p:nvPr/>
        </p:nvPicPr>
        <p:blipFill>
          <a:blip r:embed="rId1"/>
          <a:stretch/>
        </p:blipFill>
        <p:spPr>
          <a:xfrm>
            <a:off x="5105520" y="1981080"/>
            <a:ext cx="3581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ose the correct word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Dialo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loqu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Monolo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e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Comic Reli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e Dir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c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ymor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ba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pla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bal Iro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matic Iro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act of selecting, designing, adapting to, or modifying the performance space for a pl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47242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Oxymor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A figure of speech that is a combination of seemingly contradictory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xamples from </a:t>
            </a:r>
            <a:r>
              <a:rPr b="0" i="1" lang="en-US" sz="3200" spc="-1" strike="noStrike">
                <a:solidFill>
                  <a:srgbClr val="00ffff"/>
                </a:solidFill>
                <a:latin typeface="Arial"/>
              </a:rPr>
              <a:t>Romeo and Juliet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: 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brawling lov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loving hat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, heavy lightness, sick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an you think of o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Oxymor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rchy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wfully n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ks on t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Cold sw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cho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ad s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ously fun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Wise f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y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d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A situation or a statement that seems to contradict itself, but on closer inspection, contains a possible tru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wards die many times before their death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must be cruel to be kin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lle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The repetition of a grammatical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f the people, by the people, for the peopl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"When you are right you cannot be too radical; when you are wrong, you cannot be too conservative."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artin Luther King, Jr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lle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oday's students can p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pe in their vei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pe in their bra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hey c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ceive it and believe 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y c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hieve 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They must know it is not thei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titu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t thei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titu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will determine thei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titu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"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Jesse Jacks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ntithe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Opposition; or contrast of ideas or words in a balanced or parallel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 that I loved Caesar les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ut that I loved Rome mor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ink or sw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e small step for man;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iant leap for all mankind.” Ne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mstro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editorial-02"/>
          <p:cNvPicPr/>
          <p:nvPr/>
        </p:nvPicPr>
        <p:blipFill>
          <a:blip r:embed="rId1"/>
          <a:stretch/>
        </p:blipFill>
        <p:spPr>
          <a:xfrm>
            <a:off x="6629400" y="3124080"/>
            <a:ext cx="223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Prolog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preview of the story; meant to “hook” the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 In Romeo and Juliet, the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choru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ich was one man, would come out on stage and speak to the audience before the play bega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author’s message or central idea of the sto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Hint: Find the topic of the story (love, war, etc.) and then ask yourself, “What is the author trying to say about the topic?” (Love conquers all. War has no boundarie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Dialogue and Monolog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Dialog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conversation between 2 or more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Monolog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speech by one character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cec2e"/>
                </a:solidFill>
                <a:latin typeface="Arial"/>
              </a:rPr>
              <a:t>Dram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ff"/>
                </a:solidFill>
                <a:uFillTx/>
                <a:latin typeface="Arial"/>
              </a:rPr>
              <a:t>Literature meant to be performed before an audience by actors on a st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Example: </a:t>
            </a:r>
            <a:r>
              <a:rPr b="0" i="1" lang="en-US" sz="3600" spc="-1" strike="noStrike" u="sng">
                <a:solidFill>
                  <a:srgbClr val="00ffff"/>
                </a:solidFill>
                <a:uFillTx/>
                <a:latin typeface="Arial"/>
              </a:rPr>
              <a:t>Romeo and Juli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MCj01346730000[1]"/>
          <p:cNvPicPr/>
          <p:nvPr/>
        </p:nvPicPr>
        <p:blipFill>
          <a:blip r:embed="rId1"/>
          <a:stretch/>
        </p:blipFill>
        <p:spPr>
          <a:xfrm>
            <a:off x="5257800" y="1600200"/>
            <a:ext cx="2817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Comic Reli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humorous scene or speech intended to lighten the m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ri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text of a play, including dialogue, stage directions, and scene chan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c2e"/>
                </a:solidFill>
                <a:latin typeface="Arial"/>
              </a:rPr>
              <a:t>Ac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848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A major division of a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Shakespeare did not separate his plays into acts; each play was later divided into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five 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cts can contain one or more sce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c2e"/>
                </a:solidFill>
                <a:latin typeface="Arial"/>
              </a:rPr>
              <a:t>Scen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ff"/>
                </a:solidFill>
                <a:uFillTx/>
                <a:latin typeface="Arial"/>
              </a:rPr>
              <a:t>A subdivision of an act in a pl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Each scene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Arial"/>
              </a:rPr>
              <a:t>usually takes place in a specific setting and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2e"/>
                </a:solidFill>
                <a:latin typeface="Arial"/>
              </a:rPr>
              <a:t>Blank Ver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oetry or lines of dramatic verse written in unrhymed iambic pentame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ambic pentameter is a line of poetry with 5 pairs of unstressed and stressed syllables, like this: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stressed sylla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w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ous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olds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oth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a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ik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i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di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i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Shakespeare wrote most of his plays largely in blank 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ec2e"/>
                </a:solidFill>
                <a:latin typeface="Arial"/>
              </a:rPr>
              <a:t>Blank 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lock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,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one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,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r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th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n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les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ng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!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From </a:t>
            </a:r>
            <a:r>
              <a:rPr b="0" i="1" lang="en-US" sz="2800" spc="-1" strike="noStrike">
                <a:solidFill>
                  <a:srgbClr val="00ffff"/>
                </a:solidFill>
                <a:latin typeface="Arial"/>
              </a:rPr>
              <a:t>Julius Caes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ec2e"/>
                </a:solidFill>
                <a:latin typeface="Arial"/>
              </a:rPr>
              <a:t>Di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fic word choice that an author uses in writ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“…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his is a knavery of them to make me afeard.” Bottom from </a:t>
            </a:r>
            <a:r>
              <a:rPr b="0" i="1" lang="en-US" sz="3600" spc="-1" strike="noStrike">
                <a:solidFill>
                  <a:srgbClr val="00ffff"/>
                </a:solidFill>
                <a:latin typeface="Arial"/>
              </a:rPr>
              <a:t>A Midsummer Night’s D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ashb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 technique that allows a writer to present past events during current event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eam sequences, memories, et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3200400" cy="2314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26672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6:04:50Z</dcterms:created>
  <dc:creator>teacher</dc:creator>
  <dc:description/>
  <dc:language>en-US</dc:language>
  <cp:lastModifiedBy>romeoc</cp:lastModifiedBy>
  <dcterms:modified xsi:type="dcterms:W3CDTF">2013-03-06T13:59:19Z</dcterms:modified>
  <cp:revision>45</cp:revision>
  <dc:subject/>
  <dc:title>Drama Vocabulary</dc:title>
</cp:coreProperties>
</file>